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161-4869-4E45-8E95-B9AB976D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2A8-96DF-414B-B28B-D2660155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705-0C83-428C-9152-B6E8C5D4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75A-5047-4388-8D1C-B23911AE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2E82-4D51-433C-A1D8-16C48A26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2A2F-2827-44D1-940E-58459D43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20FA-BE03-4D18-84ED-E0270CD0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3838-D0E8-4793-9ED9-F4F62FFB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3321-9F89-46FD-9D8B-CB68DAA2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FD3E-2717-4363-89A3-85912316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44BD-76D3-40B3-94D2-F1BCE575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DA7-9C3B-40C8-9204-C2B6333D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7951-D924-4B39-8A4B-4C60F4DB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C2DD-352B-4E00-A537-7C65872B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9633-2B7D-4BAA-89B4-91A92A12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5A09-99E6-409B-B738-CB1050F9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A340-B823-4D66-9279-887E6E9D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227-256C-48F9-9351-3D2FC9FD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DB3-8BA8-4468-BBC8-80AE3113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E69-D9FE-43EA-B9ED-989A1114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5EA-2F5F-4942-91E4-CADB7F99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17E-B953-4D3C-BAA8-A6E771BA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CCC-6D2B-4C10-81A4-47E3BB26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2C7-C470-43DB-92AD-A23422E8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0B7F-D8B0-4A5E-B2A5-C19103F249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2605-C01E-4E6C-B8F5-74A9E73D76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WTÓRZENI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WIADOMOŚ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OZWIĄŻ REBU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az 171" descr=""/>
          <p:cNvPicPr/>
          <p:nvPr/>
        </p:nvPicPr>
        <p:blipFill>
          <a:blip r:embed="rId1"/>
          <a:stretch/>
        </p:blipFill>
        <p:spPr>
          <a:xfrm>
            <a:off x="792000" y="1494000"/>
            <a:ext cx="8010720" cy="1992240"/>
          </a:xfrm>
          <a:prstGeom prst="rect">
            <a:avLst/>
          </a:prstGeom>
          <a:ln w="0">
            <a:noFill/>
          </a:ln>
        </p:spPr>
      </p:pic>
      <p:pic>
        <p:nvPicPr>
          <p:cNvPr id="98" name="Obraz 201" descr=""/>
          <p:cNvPicPr/>
          <p:nvPr/>
        </p:nvPicPr>
        <p:blipFill>
          <a:blip r:embed="rId2"/>
          <a:stretch/>
        </p:blipFill>
        <p:spPr>
          <a:xfrm>
            <a:off x="927000" y="3833640"/>
            <a:ext cx="78310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IEL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2000" y="441972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lokąt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erzchołki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, B, C, D, E, F,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ki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B, BC, CD, DE, EF, FG, 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ąty wewnętrzn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BC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BCD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CDE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DEF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EFG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FGA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G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zwa wielokąta zależy od ilości ką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nasz wielokąt t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edmi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raz 210" descr=""/>
          <p:cNvPicPr/>
          <p:nvPr/>
        </p:nvPicPr>
        <p:blipFill>
          <a:blip r:embed="rId1"/>
          <a:stretch/>
        </p:blipFill>
        <p:spPr>
          <a:xfrm>
            <a:off x="2727360" y="1089000"/>
            <a:ext cx="35542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OST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457360" y="998640"/>
          <a:ext cx="414180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998640"/>
                    <a:ext cx="414180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20720" y="3158640"/>
            <a:ext cx="80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stokąt to czworokąt, który ma wszystkie kąty proste (miara kąta prostego 90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62360" y="3639240"/>
            <a:ext cx="54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Wymiary prostokąta to jego długość i szerok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7280" y="4200840"/>
            <a:ext cx="764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łasności prostoką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ma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cztery wierzchołk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A, B, C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ma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dwie pary boków równej długośc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|AB| = |CD|; |BC|= |AD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ma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dwie pary boków równoległyc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AB|| CD; BC ||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dwa sąsiednie boki prostokąta są prostopadł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AB </a:t>
            </a:r>
            <a:r>
              <a:rPr b="1" lang="pl-PL" sz="18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BC; BC </a:t>
            </a:r>
            <a:r>
              <a:rPr b="1" lang="pl-PL" sz="18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CD; </a:t>
            </a:r>
            <a:br>
              <a:rPr sz="1800"/>
            </a:b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  CD </a:t>
            </a:r>
            <a:r>
              <a:rPr b="1" lang="pl-PL" sz="18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AD; AD </a:t>
            </a:r>
            <a:r>
              <a:rPr b="1" lang="pl-PL" sz="18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rzekątne są równej długośc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|AC| = |B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rzekątne połowią się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|AO|= |OC|; |BO| = |O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OST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457360" y="998640"/>
          <a:ext cx="414180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998640"/>
                    <a:ext cx="414180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53400" y="3472200"/>
            <a:ext cx="8320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wód prostokąta jest sumą długości jego boków: AB + BC + CD + AD =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= 2 · a + 2 ·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ole prostokąta jest iloczynem jego sąsiednich boków: AB · BC =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 =  a ·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WADR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80920" y="1742760"/>
            <a:ext cx="7696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rysuj kwadrat i oznacz jego wierzchołki oraz zaznacz przekątn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odpowiedz na pyta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Czy kwadrat jest prostokąt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Ile wierzchołków ma kwadrat, wypisz j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Jakie są długości boków kw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. Co możesz powiedzieć o przekątnych kw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. Jak obliczamy obwód kw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. Jak obliczamy pole kw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8800" y="11793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Ćwi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K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1132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ka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liczba oznaczająca ile razy daną rzecz pomniejszyliśmy lub powiększyliś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6680" y="1854000"/>
            <a:ext cx="327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: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zeczywiste wym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: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kala pomniejsza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 :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kala powiększają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467000" y="3098880"/>
          <a:ext cx="654516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3098880"/>
                    <a:ext cx="654516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107000" y="5028840"/>
            <a:ext cx="39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Skala obrazy pomniejszać chciał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ięc dzielenie wykonać musiał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Gdy powiększać obraz przyszło j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ykonać mnożenie musi OJEJ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24:40Z</dcterms:modified>
  <cp:revision>83</cp:revision>
  <dc:subject/>
  <dc:title>Slajd 1</dc:title>
</cp:coreProperties>
</file>